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8112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108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3828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9548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9548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8112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108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3828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9548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9548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8112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108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3828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9548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9548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8112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108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3828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9548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9548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8112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108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3828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9548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9548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8112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108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3828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9548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9548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8112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108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3828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9548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9548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8112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108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3828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9548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9548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8112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108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3828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9548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9548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8112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108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3828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9548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9548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8112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108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3828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9548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9548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8112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108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3828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9548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9548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john.madden.name/mySNOMED#" TargetMode="External"/><Relationship Id="rId2" Type="http://schemas.openxmlformats.org/officeDocument/2006/relationships/hyperlink" Target="http://john.madden.name/mySNOMED#" TargetMode="External"/><Relationship Id="rId3" Type="http://schemas.openxmlformats.org/officeDocument/2006/relationships/hyperlink" Target="http://purl.oclc.org/snomed#" TargetMode="External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nlm.nih.gov/research/umls/sab/SCT" TargetMode="External"/><Relationship Id="rId2" Type="http://schemas.openxmlformats.org/officeDocument/2006/relationships/hyperlink" Target="http://www.cap.org/snomedct" TargetMode="External"/><Relationship Id="rId3" Type="http://schemas.openxmlformats.org/officeDocument/2006/relationships/hyperlink" Target="http://ihtsdo.org/snomedct" TargetMode="External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sharedname.org/ontology/SCT" TargetMode="External"/><Relationship Id="rId2" Type="http://schemas.openxmlformats.org/officeDocument/2006/relationships/hyperlink" Target="http://bioportal.org/ontology/SCT" TargetMode="External"/><Relationship Id="rId3" Type="http://schemas.openxmlformats.org/officeDocument/2006/relationships/hyperlink" Target="http://pds.portaldoors.net/snomedct" TargetMode="External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sharedterm.org/uri/urn:oid:2.16.840.1.113883.6.96" TargetMode="External"/><Relationship Id="rId2" Type="http://schemas.openxmlformats.org/officeDocument/2006/relationships/hyperlink" Target="http://sharedterm.org/uri/urn:oid:2.16.840.1.113883.6.96" TargetMode="External"/><Relationship Id="rId3" Type="http://schemas.openxmlformats.org/officeDocument/2006/relationships/hyperlink" Target="http://ihtsdo.org/snomedct" TargetMode="External"/><Relationship Id="rId4" Type="http://schemas.openxmlformats.org/officeDocument/2006/relationships/hyperlink" Target="http://ihtsdo.org/snomedct" TargetMode="External"/><Relationship Id="rId5" Type="http://schemas.openxmlformats.org/officeDocument/2006/relationships/hyperlink" Target="http://ihtsdo.org/snomedct" TargetMode="External"/><Relationship Id="rId6" Type="http://schemas.openxmlformats.org/officeDocument/2006/relationships/hyperlink" Target="http://www.cap.org/snomedct" TargetMode="External"/><Relationship Id="rId7" Type="http://schemas.openxmlformats.org/officeDocument/2006/relationships/hyperlink" Target="http://www.cap.org/snomedct" TargetMode="External"/><Relationship Id="rId8" Type="http://schemas.openxmlformats.org/officeDocument/2006/relationships/hyperlink" Target="http://www.cap.org/snomedct" TargetMode="External"/><Relationship Id="rId9" Type="http://schemas.openxmlformats.org/officeDocument/2006/relationships/hyperlink" Target="http://ihtsdo.org/snomedct" TargetMode="External"/><Relationship Id="rId10" Type="http://schemas.openxmlformats.org/officeDocument/2006/relationships/hyperlink" Target="http://ihtsdo.org/snomedct" TargetMode="External"/><Relationship Id="rId11" Type="http://schemas.openxmlformats.org/officeDocument/2006/relationships/hyperlink" Target="http://ihtsdo.org/snomedct" TargetMode="External"/><Relationship Id="rId12" Type="http://schemas.openxmlformats.org/officeDocument/2006/relationships/hyperlink" Target="http://ihtsdo.org/snomedct" TargetMode="External"/><Relationship Id="rId13" Type="http://schemas.openxmlformats.org/officeDocument/2006/relationships/hyperlink" Target="http://sharedterm.org/uri/http://ihtsdo.org/snomedct" TargetMode="External"/><Relationship Id="rId14" Type="http://schemas.openxmlformats.org/officeDocument/2006/relationships/hyperlink" Target="http://sharedterm.org/uri/http://ihtsdo.org/snomedct" TargetMode="External"/><Relationship Id="rId15" Type="http://schemas.openxmlformats.org/officeDocument/2006/relationships/hyperlink" Target="http://ihtsdo.org/snomedct" TargetMode="External"/><Relationship Id="rId16" Type="http://schemas.openxmlformats.org/officeDocument/2006/relationships/hyperlink" Target="http://ihtsdo.org/snomedct" TargetMode="External"/><Relationship Id="rId17" Type="http://schemas.openxmlformats.org/officeDocument/2006/relationships/hyperlink" Target="http://ihtsdo.org/snomedct" TargetMode="External"/><Relationship Id="rId18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sharedterm.org/uri/urn:oid:2.16.840.1.113883.6.96" TargetMode="External"/><Relationship Id="rId2" Type="http://schemas.openxmlformats.org/officeDocument/2006/relationships/hyperlink" Target="http://ihtsdo.org/snomedct" TargetMode="External"/><Relationship Id="rId3" Type="http://schemas.openxmlformats.org/officeDocument/2006/relationships/hyperlink" Target="http://sharedterm.org/ontology/http://ihtsdo.org/snomedct" TargetMode="External"/><Relationship Id="rId4" Type="http://schemas.openxmlformats.org/officeDocument/2006/relationships/hyperlink" Target="http://bioportal.org/" TargetMode="External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htsdo.org/snomedct" TargetMode="External"/><Relationship Id="rId2" Type="http://schemas.openxmlformats.org/officeDocument/2006/relationships/hyperlink" Target="http://ihtsdo.org/snomedct" TargetMode="External"/><Relationship Id="rId3" Type="http://schemas.openxmlformats.org/officeDocument/2006/relationships/hyperlink" Target="http://bioportal.org/4126/12345678" TargetMode="External"/><Relationship Id="rId4" Type="http://schemas.openxmlformats.org/officeDocument/2006/relationships/hyperlink" Target="http://bioportal.org/4126/12345678" TargetMode="External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1844280"/>
            <a:ext cx="7772400" cy="204156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rminology W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371600" y="388584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96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ohn Mad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6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uke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Top-down: Terminology today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85400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oderate number of large, evolved terminolog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dapted for specific business-process contex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ach separately, centrally curat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ypically hierarchical, various expressivi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enerally do not have a computable semantic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ncommon to mix vocabular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ach uses own identifier format, much existing software is “hard-coded” (or “firm-coded”) to expect/accept very specific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69056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-down: SKOS advanta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2044800"/>
            <a:ext cx="8229600" cy="48132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ndard representation of core concepts of traditional terminolog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stracts away differences in express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826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eats terms as subject head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826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need to assume a particular world-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3" name=""/>
          <p:cNvGraphicFramePr/>
          <p:nvPr/>
        </p:nvGraphicFramePr>
        <p:xfrm>
          <a:off x="660240" y="165240"/>
          <a:ext cx="8304120" cy="6311880"/>
        </p:xfrm>
        <a:graphic>
          <a:graphicData uri="http://schemas.openxmlformats.org/drawingml/2006/table">
            <a:tbl>
              <a:tblPr/>
              <a:tblGrid>
                <a:gridCol w="2725560"/>
                <a:gridCol w="2725920"/>
                <a:gridCol w="2852640"/>
              </a:tblGrid>
              <a:tr h="858600">
                <a:tc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elsinki Narrow"/>
                          <a:ea typeface="Helsinki Narrow"/>
                        </a:rPr>
                        <a:t>&lt;sct:sct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elsinki Narrow"/>
                          <a:ea typeface="Helsinki Narrow"/>
                        </a:rPr>
                        <a:t>rdf:typ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elsinki Narrow"/>
                          <a:ea typeface="Helsinki Narrow"/>
                        </a:rPr>
                        <a:t>skos:ConceptScheme 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58600">
                <a:tc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elsinki Narrow"/>
                          <a:ea typeface="Helsinki Narrow"/>
                        </a:rPr>
                        <a:t>&lt;sct:sct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elsinki Narrow"/>
                          <a:ea typeface="Helsinki Narrow"/>
                        </a:rPr>
                        <a:t>skos:hasTopConce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elsinki Narrow"/>
                          <a:ea typeface="Helsinki Narrow"/>
                        </a:rPr>
                        <a:t>sct:id-138875005 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58600">
                <a:tc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elsinki Narrow"/>
                          <a:ea typeface="Helsinki Narrow"/>
                        </a:rPr>
                        <a:t>sct:id-1166800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elsinki Narrow"/>
                          <a:ea typeface="Helsinki Narrow"/>
                        </a:rPr>
                        <a:t>rdfs:subPropertyO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elsinki Narrow"/>
                          <a:ea typeface="Helsinki Narrow"/>
                        </a:rPr>
                        <a:t>skos:broader 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92840">
                <a:tc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elsinki Narrow"/>
                          <a:ea typeface="Helsinki Narrow"/>
                        </a:rPr>
                        <a:t>sct:contai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elsinki Narrow"/>
                          <a:ea typeface="Helsinki Narrow"/>
                        </a:rPr>
                        <a:t>owl:inverseO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elsinki Narrow"/>
                          <a:ea typeface="Helsinki Narrow"/>
                        </a:rPr>
                        <a:t>sct:id-116680003 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58600">
                <a:tc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elsinki Narrow"/>
                          <a:ea typeface="Helsinki Narrow"/>
                        </a:rPr>
                        <a:t>sct:contai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elsinki Narrow"/>
                          <a:ea typeface="Helsinki Narrow"/>
                        </a:rPr>
                        <a:t>rdfs:subPropertyO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elsinki Narrow"/>
                          <a:ea typeface="Helsinki Narrow"/>
                        </a:rPr>
                        <a:t>skos:narrower 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58600">
                <a:tc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elsinki Narrow"/>
                          <a:ea typeface="Helsinki Narrow"/>
                        </a:rPr>
                        <a:t>sct:des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elsinki Narrow"/>
                          <a:ea typeface="Helsinki Narrow"/>
                        </a:rPr>
                        <a:t>rdfs:subPropertyO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elsinki Narrow"/>
                          <a:ea typeface="Helsinki Narrow"/>
                        </a:rPr>
                        <a:t>skos:altLabel 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58600">
                <a:tc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elsinki Narrow"/>
                          <a:ea typeface="Helsinki Narrow"/>
                        </a:rPr>
                        <a:t>sct:fs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elsinki Narrow"/>
                          <a:ea typeface="Helsinki Narrow"/>
                        </a:rPr>
                        <a:t>rdfs:subPropertyO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elsinki Narrow"/>
                          <a:ea typeface="Helsinki Narrow"/>
                        </a:rPr>
                        <a:t>skos:prefLabel 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58600">
                <a:tc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elsinki Narrow"/>
                          <a:ea typeface="Helsinki Narrow"/>
                        </a:rPr>
                        <a:t>sct:id-116676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elsinki Narrow"/>
                          <a:ea typeface="Helsinki Narrow"/>
                        </a:rPr>
                        <a:t>rdfs:subPropertyO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elsinki Narrow"/>
                          <a:ea typeface="Helsinki Narrow"/>
                        </a:rPr>
                        <a:t>skos:related 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58600">
                <a:tc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elsinki Narrow"/>
                          <a:ea typeface="Helsinki Narrow"/>
                        </a:rPr>
                        <a:t>sct:id-116686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elsinki Narrow"/>
                          <a:ea typeface="Helsinki Narrow"/>
                        </a:rPr>
                        <a:t>rdfs:subPropertyO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elsinki Narrow"/>
                          <a:ea typeface="Helsinki Narrow"/>
                        </a:rPr>
                        <a:t>skos:related 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58600">
                <a:tc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elsinki Narrow"/>
                          <a:ea typeface="Helsinki Narrow"/>
                        </a:rPr>
                        <a:t>sct:id-1181680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elsinki Narrow"/>
                          <a:ea typeface="Helsinki Narrow"/>
                        </a:rPr>
                        <a:t>rdfs:subPropertyO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elsinki Narrow"/>
                          <a:ea typeface="Helsinki Narrow"/>
                        </a:rPr>
                        <a:t>skos:related 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92840">
                <a:tc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elsinki Narrow"/>
                          <a:ea typeface="Helsinki Narrow"/>
                        </a:rPr>
                        <a:t>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elsinki Narrow"/>
                          <a:ea typeface="Helsinki Narrow"/>
                        </a:rPr>
                        <a:t>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elsinki Narrow"/>
                          <a:ea typeface="Helsinki Narrow"/>
                        </a:rPr>
                        <a:t>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1"/>
          <a:srcRect l="747" t="1163" r="648" b="44604"/>
          <a:stretch/>
        </p:blipFill>
        <p:spPr>
          <a:xfrm>
            <a:off x="0" y="0"/>
            <a:ext cx="1173492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rcRect l="0" t="8356" r="0" b="8410"/>
          <a:stretch/>
        </p:blipFill>
        <p:spPr>
          <a:xfrm>
            <a:off x="0" y="0"/>
            <a:ext cx="12065040" cy="641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ttom-up meets Top-dow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 you link local ontologies (domain models) with global ontologi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ider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826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 upwards mappings to multiple global ontolog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826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single “correct” map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826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 ontology discove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qusite for mapping: URI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ique Resource Identifi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would be nice (in some ways) if it were the unique identifier for a resource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 it isn’t.  Pragmatically, it is an identifier for (hopefully) a unique resour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 I need a standard URI? Mayb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34568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You want to terminology-enable your graphs, but you don’t necessarily need the inferences RIGHT NOW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RI’s are cheap!”: Add hooks for “late semantic binding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84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ust make a blank node (_:snomedInfluenz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84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e a named node in the xml:base namespace (of the documen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84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plicity use a stand-in namespace you control (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john.madden.name/mySNOMED#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84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r get yourself a PURL domain (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http://purl.oclc.org/mine/10/01/24/snomed#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You can always assert owl:sameAs, or rdfs:seeAlso, or skos:closeMatch later on when you finally reas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mitation: not all datastores have reasoners runn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84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f course, YOU have a reasoner running on YOUR datasto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 I need a standard URI? Mayb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You want to terminology-enable your graphs, and you DO need the inferences RIGHT NOW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aving a standard URI might help, IF the terminology provider serves RDF that you can use (e.g. has a SPARQL endpoint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therwise, you’re going to have to represent the terminology locally (or find somebody who represents it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 I need a standard URI? Mayb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want to make your document “visible” to OTHER datastores that might be using the same standard terminology(i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re, you’re a bit stuck. You would need a common U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ll-your own alternatives: get your consortium together and agree on an on-the-fly mapping sol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84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ts of these: integrate with SPARQL solutions (see Lee &amp; Eric); other solutions, other tricks (D2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cument to Termin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4094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Bold"/>
                <a:ea typeface="Calibri Bold"/>
              </a:rPr>
              <a:t>Bottom-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826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fer classes/properties from sample corp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826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thor as </a:t>
            </a:r>
            <a:r>
              <a:rPr b="0" lang="en-US" sz="2800" spc="-1" strike="noStrike">
                <a:solidFill>
                  <a:srgbClr val="000000"/>
                </a:solidFill>
                <a:latin typeface="Calibri Bold"/>
                <a:ea typeface="Calibri Bold"/>
              </a:rPr>
              <a:t>loc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 Bold"/>
                <a:ea typeface="Calibri Bold"/>
              </a:rPr>
              <a:t>vocabul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826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roximate to standard vocabula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826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e F.: “good-enough modeling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Bold"/>
                <a:ea typeface="Calibri Bold"/>
              </a:rPr>
              <a:t>Top-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826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set existing terms from standard vocabula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826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cialize terms as need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826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ly to new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RI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n’t we just convince everyone to use just on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 Bold"/>
                <a:ea typeface="Calibri Bold"/>
              </a:rPr>
              <a:t>Absolutel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 HL7, an ANSI and ISO standards body has already established a URI scheme for Healthcare terminology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826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NOMED CT:  urn:oid:2.16.840.1.113883.6.9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 Bold"/>
                <a:ea typeface="Calibri Bold"/>
              </a:rPr>
              <a:t>Absolutel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 The UMLS has already registered identifiers in the MRSAB table, which can be combined with an appropriate base such a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826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NOMED CT: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nlm.nih.gov/research/umls/sab/SC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Bold"/>
                <a:ea typeface="Calibri Bold"/>
              </a:rPr>
              <a:t>Absolutel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CAP is (was) clearly the owner and should assign the official SNOMED CT URI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826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NOMED CT: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http://www.cap.org/snomedc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Bold"/>
                <a:ea typeface="Calibri Bold"/>
              </a:rPr>
              <a:t>Absolutel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HTSDO is clearly the owner and should assign the official SNOMED CT UR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826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NOMED CT: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http://ihtsdo.org/snomedc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RI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 Bold"/>
                <a:ea typeface="Calibri Bold"/>
              </a:rPr>
              <a:t>Absolutely.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veryone should use sharedname.org (or sharedterm.org) (or bioportal.org) because it is more better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826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 Bold"/>
                <a:ea typeface="Calibri Bold"/>
              </a:rPr>
              <a:t>SNOMED CT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sharedname.org/ontology/S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826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 Bold"/>
                <a:ea typeface="Calibri Bold"/>
              </a:rPr>
              <a:t>SNOMED CT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alibri Bold"/>
                <a:ea typeface="Calibri Bold"/>
                <a:hlinkClick r:id="rId2"/>
              </a:rPr>
              <a:t>http://bioportal.org/ontology/S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 Bold"/>
                <a:ea typeface="Calibri Bold"/>
              </a:rPr>
              <a:t>Absolutely.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problem has been solve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826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 Bold"/>
                <a:ea typeface="Calibri Bold"/>
              </a:rPr>
              <a:t>SNOMED CT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alibri Bold"/>
                <a:ea typeface="Calibri Bold"/>
                <a:hlinkClick r:id="rId3"/>
              </a:rPr>
              <a:t>http://pds.portaldoors.net/snomed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8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8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 Bold"/>
                <a:ea typeface="Calibri Bold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RI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554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Italic"/>
                <a:ea typeface="Calibri Italic"/>
              </a:rPr>
              <a:t>Uniqu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URI’s are not going to happen any time so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5400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y variants are already in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5400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is still no agreement of formation princip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53960" indent="-514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wner vs. dispatcher (ihtsdo vs. sharednam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53960" indent="-514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referencable vs. opaque (urn:oid vs. http://..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54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rguably) the “winner” will be the resource that recognizes this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aredTe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 1: Map a URI into a “canonical” U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(URI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U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Calibri"/>
                <a:ea typeface="ヒラギノ角ゴ ProN W3"/>
                <a:hlinkClick r:id="rId1"/>
              </a:rPr>
              <a:t>	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ea typeface="ヒラギノ角ゴ ProN W3"/>
                <a:hlinkClick r:id="rId2"/>
              </a:rPr>
              <a:t>http://sharedterm.org/uri/urn:oid:2.16.840.1.113883.6.9</a:t>
            </a:r>
            <a:r>
              <a:rPr b="0" lang="en-US" sz="2400" spc="-1" strike="noStrike" u="sng">
                <a:solidFill>
                  <a:srgbClr val="0021cc"/>
                </a:solidFill>
                <a:uFillTx/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角ゴ ProN W3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角ゴ ProN W3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03: (?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)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→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http://ihtsdo.org/snom</a:t>
            </a:r>
            <a:r>
              <a:rPr b="0" lang="en-US" sz="2400" spc="-1" strike="noStrike" u="sng">
                <a:solidFill>
                  <a:srgbClr val="0021cc"/>
                </a:solidFill>
                <a:uFillTx/>
                <a:latin typeface="Calibri"/>
              </a:rPr>
              <a:t>ed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1cc"/>
                </a:solidFill>
                <a:latin typeface="Calibri"/>
                <a:ea typeface="ヒラギノ角ゴ ProN W3"/>
              </a:rPr>
              <a:t>	</a:t>
            </a:r>
            <a:r>
              <a:rPr b="0" lang="en-US" sz="2400" spc="-1" strike="noStrike">
                <a:solidFill>
                  <a:srgbClr val="0021cc"/>
                </a:solidFill>
                <a:latin typeface="Calibri"/>
              </a:rPr>
              <a:t>http://sharedterm.org/ur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i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http://www.cap.org/snomed</a:t>
            </a:r>
            <a:r>
              <a:rPr b="0" lang="en-US" sz="2400" spc="-1" strike="noStrike" u="sng">
                <a:solidFill>
                  <a:srgbClr val="0021cc"/>
                </a:solidFill>
                <a:uFillTx/>
                <a:latin typeface="Calibri"/>
              </a:rPr>
              <a:t>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角ゴ ProN W3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角ゴ ProN W3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03: (?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)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→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http://ihtsdo.org/snom</a:t>
            </a:r>
            <a:r>
              <a:rPr b="0" lang="en-US" sz="2400" spc="-1" strike="noStrike" u="sng">
                <a:solidFill>
                  <a:srgbClr val="0021cc"/>
                </a:solidFill>
                <a:uFillTx/>
                <a:latin typeface="Calibri"/>
              </a:rPr>
              <a:t>ed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ea typeface="ヒラギノ角ゴ ProN W3"/>
                <a:hlinkClick r:id="rId13"/>
              </a:rPr>
              <a:t>	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ea typeface="ヒラギノ角ゴ ProN W3"/>
                <a:hlinkClick r:id="rId14"/>
              </a:rPr>
              <a:t>http://sharedterm.org/uri/http://ihtsdo.org/snomed</a:t>
            </a:r>
            <a:r>
              <a:rPr b="0" lang="en-US" sz="2400" spc="-1" strike="noStrike" u="sng">
                <a:solidFill>
                  <a:srgbClr val="0021cc"/>
                </a:solidFill>
                <a:uFillTx/>
                <a:latin typeface="Calibri"/>
              </a:rPr>
              <a:t>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角ゴ ProN W3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角ゴ ProN W3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03: (?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)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→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hlinkClick r:id="rId17"/>
              </a:rPr>
              <a:t>http://ihtsdo.org/snom</a:t>
            </a:r>
            <a:r>
              <a:rPr b="0" lang="en-US" sz="2400" spc="-1" strike="noStrike" u="sng">
                <a:solidFill>
                  <a:srgbClr val="002aff"/>
                </a:solidFill>
                <a:uFillTx/>
                <a:latin typeface="Calibri"/>
              </a:rPr>
              <a:t>edct</a:t>
            </a:r>
            <a:r>
              <a:rPr b="0" lang="en-US" sz="2400" spc="-1" strike="noStrike">
                <a:solidFill>
                  <a:srgbClr val="002a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aredTe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cision as to what is “canonical” is still an issue, but not actually that important as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sharedterm.org/uri/urn:oid:2.16.840.1.113883.6.96</a:t>
            </a:r>
            <a:r>
              <a:rPr b="0" lang="en-US" sz="2300" spc="-1" strike="noStrike">
                <a:solidFill>
                  <a:srgbClr val="0021cc"/>
                </a:solidFill>
                <a:latin typeface="Calibri"/>
              </a:rPr>
              <a:t> →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http://ihtsdo.org/snomedct</a:t>
            </a:r>
            <a:r>
              <a:rPr b="0" lang="en-US" sz="2300" spc="-1" strike="noStrike">
                <a:solidFill>
                  <a:srgbClr val="0021cc"/>
                </a:solidFill>
                <a:latin typeface="Calibri"/>
              </a:rPr>
              <a:t> →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http://sharedterm.org/ontology/http://ihtsdo.org/snomedct</a:t>
            </a:r>
            <a:r>
              <a:rPr b="0" lang="en-US" sz="2300" spc="-1" strike="noStrike">
                <a:solidFill>
                  <a:srgbClr val="0021cc"/>
                </a:solidFill>
                <a:latin typeface="Calibri"/>
              </a:rPr>
              <a:t> →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http://bioportal.org/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..  (record of snomedc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we really need 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resource that </a:t>
            </a:r>
            <a:r>
              <a:rPr b="0" lang="en-US" sz="2400" spc="-1" strike="noStrike">
                <a:solidFill>
                  <a:srgbClr val="000000"/>
                </a:solidFill>
                <a:latin typeface="Calibri Italic"/>
                <a:ea typeface="Calibri Italic"/>
              </a:rPr>
              <a:t>describ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NOM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entity tes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lass/entity/”concept code” iss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“concept” in SNOMED-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ea typeface="ヒラギノ角ゴ ProN W3"/>
                <a:hlinkClick r:id="rId1"/>
              </a:rPr>
              <a:t>	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ea typeface="ヒラギノ角ゴ ProN W3"/>
                <a:hlinkClick r:id="rId2"/>
              </a:rPr>
              <a:t>http://ihtsdo.org/snomedct#123456</a:t>
            </a:r>
            <a:r>
              <a:rPr b="0" lang="en-US" sz="2400" spc="-1" strike="noStrike" u="sng">
                <a:solidFill>
                  <a:srgbClr val="0021cc"/>
                </a:solidFill>
                <a:uFillTx/>
                <a:latin typeface="Calibri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eds to be mapped to a resource ent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ea typeface="ヒラギノ角ゴ ProN W3"/>
                <a:hlinkClick r:id="rId3"/>
              </a:rPr>
              <a:t>	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ea typeface="ヒラギノ角ゴ ProN W3"/>
                <a:hlinkClick r:id="rId4"/>
              </a:rPr>
              <a:t>http://bioportal.org/4126/123456</a:t>
            </a:r>
            <a:r>
              <a:rPr b="0" lang="en-US" sz="2400" spc="-1" strike="noStrike" u="sng">
                <a:solidFill>
                  <a:srgbClr val="0021cc"/>
                </a:solidFill>
                <a:uFillTx/>
                <a:latin typeface="Calibri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trick is separating the code from the namesp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#”, “/”, “:” rules work most of the 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t there are still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826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mbedded slash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826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ierarchical identifi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826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#” as part of the URI vs. identifi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826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fer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21cc"/>
                </a:solidFill>
                <a:uFillTx/>
                <a:latin typeface="Calibri"/>
              </a:rPr>
              <a:t>http://sharedname.org/w/index.php?title=OntologyAccess</a:t>
            </a:r>
            <a:r>
              <a:rPr b="0" lang="en-US" sz="3200" spc="-1" strike="noStrike">
                <a:solidFill>
                  <a:srgbClr val="0021cc"/>
                </a:solidFill>
                <a:latin typeface="Calibri Bold"/>
                <a:ea typeface="Calibri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ttom-up (1): Pharma ont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lect detailed use case narra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xical analysis: rank nouns and verbs by frequ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ect top 20 semes to represent class candid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 x 20 grid of classes: each of 400 cells represents potential relation/proper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 bootstrap custom OWL ont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636480" y="890640"/>
          <a:ext cx="7359480" cy="5073120"/>
        </p:xfrm>
        <a:graphic>
          <a:graphicData uri="http://schemas.openxmlformats.org/drawingml/2006/table">
            <a:tbl>
              <a:tblPr/>
              <a:tblGrid>
                <a:gridCol w="1472040"/>
                <a:gridCol w="1472040"/>
                <a:gridCol w="1471320"/>
                <a:gridCol w="1472040"/>
                <a:gridCol w="1472040"/>
              </a:tblGrid>
              <a:tr h="1014480">
                <a:tc>
                  <a:txBody>
                    <a:bodyPr lIns="50760" rIns="50760" tIns="50760" bIns="5076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Pati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66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Doc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66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Dru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66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Do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66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0148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Pati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se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tak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Doc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trea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consul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prescrib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8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Dru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affec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interacts wi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dispensed  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Do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 flipH="1">
            <a:off x="5882760" y="1671480"/>
            <a:ext cx="1017720" cy="598680"/>
          </a:xfrm>
          <a:prstGeom prst="line">
            <a:avLst/>
          </a:prstGeom>
          <a:ln w="63360">
            <a:solidFill>
              <a:srgbClr val="00008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1933560" y="3446640"/>
            <a:ext cx="434880" cy="2880"/>
          </a:xfrm>
          <a:prstGeom prst="line">
            <a:avLst/>
          </a:prstGeom>
          <a:ln w="63360">
            <a:solidFill>
              <a:srgbClr val="00008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2846520" y="1668600"/>
            <a:ext cx="1440" cy="1644480"/>
          </a:xfrm>
          <a:prstGeom prst="line">
            <a:avLst/>
          </a:prstGeom>
          <a:ln w="63360">
            <a:solidFill>
              <a:srgbClr val="00008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1943280" y="2425680"/>
            <a:ext cx="3395520" cy="14400"/>
          </a:xfrm>
          <a:prstGeom prst="line">
            <a:avLst/>
          </a:prstGeom>
          <a:ln w="63360">
            <a:solidFill>
              <a:srgbClr val="00008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740560" y="1560600"/>
            <a:ext cx="1440" cy="738000"/>
          </a:xfrm>
          <a:prstGeom prst="line">
            <a:avLst/>
          </a:prstGeom>
          <a:ln w="63360">
            <a:solidFill>
              <a:srgbClr val="00008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Bottom-up (2): Cancer checklist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lege of American Pathologists prescribes best practice data items on cancer diagnostic repo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826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mi-formal data items → formal document description as XML Schema → XML vocabul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826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ML vocabulary → RDF by definable rules (GRDDL transfor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826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RDF vocabulary to target? Easiest: local vocabulary that closely matches the XML vocabul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114480" y="825480"/>
            <a:ext cx="8331120" cy="520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0" y="4680"/>
            <a:ext cx="4254480" cy="790092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2"/>
          <a:srcRect l="0" t="12531" r="22704" b="1414"/>
          <a:stretch/>
        </p:blipFill>
        <p:spPr>
          <a:xfrm>
            <a:off x="4237200" y="655560"/>
            <a:ext cx="5268600" cy="622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ttom-up: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257120"/>
            <a:ext cx="8229600" cy="56005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aphora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umor site: Upper outer quadrant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9" name=""/>
          <p:cNvGraphicFramePr/>
          <p:nvPr/>
        </p:nvGraphicFramePr>
        <p:xfrm>
          <a:off x="1355760" y="1927080"/>
          <a:ext cx="6426000" cy="1498680"/>
        </p:xfrm>
        <a:graphic>
          <a:graphicData uri="http://schemas.openxmlformats.org/drawingml/2006/table">
            <a:tbl>
              <a:tblPr/>
              <a:tblGrid>
                <a:gridCol w="1606320"/>
                <a:gridCol w="1606320"/>
                <a:gridCol w="1606680"/>
                <a:gridCol w="1606680"/>
              </a:tblGrid>
              <a:tr h="7491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For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a4a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a1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It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a5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Respon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fa5ff"/>
                    </a:solidFill>
                  </a:tcPr>
                </a:tc>
              </a:tr>
              <a:tr h="7495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RD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a5fea2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Subje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ea1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Predic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a5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Val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8d9ac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0" name=""/>
          <p:cNvGraphicFramePr/>
          <p:nvPr/>
        </p:nvGraphicFramePr>
        <p:xfrm>
          <a:off x="1359000" y="4645080"/>
          <a:ext cx="7365960" cy="1500120"/>
        </p:xfrm>
        <a:graphic>
          <a:graphicData uri="http://schemas.openxmlformats.org/drawingml/2006/table">
            <a:tbl>
              <a:tblPr/>
              <a:tblGrid>
                <a:gridCol w="3683160"/>
                <a:gridCol w="3682800"/>
              </a:tblGrid>
              <a:tr h="51336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Patient has Specimen.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Specimen has Tumor.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336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Specimen has Site.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Patient has Tumor.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336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Patient has Site.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Tumor is excised.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ttom-up: plus and min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826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iples match surface synta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826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main-specific “microvocabulary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826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cument originators control semant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826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826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ocabulary needs to “catch on” to be useful to outsi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826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“free ride” on knowledge encoded in existing ontologies (without map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stephens1</dc:creator>
  <dc:description/>
  <dc:language>en-US</dc:language>
  <cp:lastModifiedBy/>
  <cp:revision>0</cp:revision>
  <dc:subject/>
  <dc:title>Slide 1</dc:title>
</cp:coreProperties>
</file>